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29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3610-4AB6-49FB-97D9-E3EF1EFC6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ltu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2C0-1F8A-474B-8640-29F89111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E913-5554-4731-8617-5F9B5EBD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8AA-1855-494E-88C4-F83B2628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6DE2-7FD4-4504-9313-BE73A2EF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06EE-ECCB-44B9-8AD9-68A0B248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B526-F331-4310-8E15-1C040AE3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C66-D83F-41E5-BEAA-D291D0EE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7F9-0AD1-4F80-822D-C1893FEE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350-6D4D-4A02-9EB9-8BB1C712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16B-7E53-46F9-B6B6-279F85D5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7E8-4B0C-4671-AB32-8FBC2532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A1E-4FA1-42FA-ACFF-5E5E528C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D87B-C0F2-45FA-94DD-3FD14FD61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1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28620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二零一零年三月十五日</a:t>
            </a:r>
            <a:r>
              <a:rPr b="1" lang="zh-TW" sz="2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星期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2640" y="714240"/>
            <a:ext cx="65530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zh-TW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過馬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rossing street 031510.jpg"/>
          <p:cNvPicPr/>
          <p:nvPr/>
        </p:nvPicPr>
        <p:blipFill>
          <a:blip r:embed="rId1"/>
          <a:stretch/>
        </p:blipFill>
        <p:spPr>
          <a:xfrm>
            <a:off x="285840" y="2857680"/>
            <a:ext cx="2476440" cy="2857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ross street 031510.jpg"/>
          <p:cNvPicPr/>
          <p:nvPr/>
        </p:nvPicPr>
        <p:blipFill>
          <a:blip r:embed="rId2"/>
          <a:stretch/>
        </p:blipFill>
        <p:spPr>
          <a:xfrm>
            <a:off x="6215040" y="3143160"/>
            <a:ext cx="2446200" cy="250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rossing road 031510.jpg"/>
          <p:cNvPicPr/>
          <p:nvPr/>
        </p:nvPicPr>
        <p:blipFill>
          <a:blip r:embed="rId3"/>
          <a:stretch/>
        </p:blipFill>
        <p:spPr>
          <a:xfrm>
            <a:off x="3000240" y="3214800"/>
            <a:ext cx="2708280" cy="235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traffic lights sign 031510.jpg"/>
          <p:cNvPicPr/>
          <p:nvPr/>
        </p:nvPicPr>
        <p:blipFill>
          <a:blip r:embed="rId4"/>
          <a:stretch/>
        </p:blipFill>
        <p:spPr>
          <a:xfrm>
            <a:off x="1071720" y="1285920"/>
            <a:ext cx="137160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字方塊 11"/>
          <p:cNvSpPr/>
          <p:nvPr/>
        </p:nvSpPr>
        <p:spPr>
          <a:xfrm>
            <a:off x="1000080" y="21420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</a:t>
            </a: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方向</a:t>
            </a: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(</a:t>
            </a:r>
            <a:r>
              <a:rPr b="1" lang="en-US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direction)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6215040" y="542916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5286240" y="1143000"/>
            <a:ext cx="105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3352680" y="32148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7995960" y="1714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utoShape 17"/>
          <p:cNvSpPr/>
          <p:nvPr/>
        </p:nvSpPr>
        <p:spPr>
          <a:xfrm rot="7818600">
            <a:off x="6513840" y="4715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18"/>
          <p:cNvSpPr/>
          <p:nvPr/>
        </p:nvSpPr>
        <p:spPr>
          <a:xfrm rot="1341600">
            <a:off x="4883040" y="16268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4071960" y="30718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20"/>
          <p:cNvSpPr/>
          <p:nvPr/>
        </p:nvSpPr>
        <p:spPr>
          <a:xfrm rot="14328000">
            <a:off x="7944120" y="2329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0" descr="direction sign 031510.jpg"/>
          <p:cNvPicPr/>
          <p:nvPr/>
        </p:nvPicPr>
        <p:blipFill>
          <a:blip r:embed="rId1"/>
          <a:stretch/>
        </p:blipFill>
        <p:spPr>
          <a:xfrm>
            <a:off x="428760" y="1071720"/>
            <a:ext cx="2457360" cy="2643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direction house 031510.jpg"/>
          <p:cNvPicPr/>
          <p:nvPr/>
        </p:nvPicPr>
        <p:blipFill>
          <a:blip r:embed="rId2"/>
          <a:stretch/>
        </p:blipFill>
        <p:spPr>
          <a:xfrm>
            <a:off x="4643280" y="2357280"/>
            <a:ext cx="31654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85480" y="5072040"/>
            <a:ext cx="86439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馬路上有很多人</a:t>
            </a:r>
            <a:r>
              <a:rPr b="1" lang="zh-CN" sz="4000" spc="-1" strike="noStrike">
                <a:solidFill>
                  <a:srgbClr val="000000"/>
                </a:solidFill>
                <a:latin typeface="文鼎標楷下漢語寬拼音C1"/>
                <a:ea typeface="文鼎標楷下漢語寬拼音C1"/>
              </a:rPr>
              <a:t>也</a:t>
            </a:r>
            <a:r>
              <a:rPr b="1" lang="zh-TW" sz="3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很多車</a:t>
            </a:r>
            <a:r>
              <a:rPr b="1" lang="zh-TW" sz="3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447920" y="34290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971800" y="365760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905120" y="533520"/>
            <a:ext cx="397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0" y="214200"/>
            <a:ext cx="88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造句練習</a:t>
            </a:r>
            <a:r>
              <a:rPr b="1" lang="en-US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文鼎標楷下漢語寬拼音C1"/>
                <a:ea typeface="文鼎標楷下漢語寬拼音C1"/>
              </a:rPr>
              <a:t>馬路上有</a:t>
            </a:r>
            <a:r>
              <a:rPr b="1" lang="zh-CN" sz="4400" spc="-1" strike="noStrike">
                <a:solidFill>
                  <a:srgbClr val="000000"/>
                </a:solidFill>
                <a:latin typeface="文鼎標楷下漢語寬拼音C1"/>
                <a:ea typeface="文鼎標楷下漢語寬拼音C1"/>
              </a:rPr>
              <a:t>什麼？</a:t>
            </a:r>
            <a:r>
              <a:rPr b="1" lang="en-US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…</a:t>
            </a:r>
            <a:r>
              <a:rPr b="1" lang="en-US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1928880" y="1357200"/>
            <a:ext cx="5500800" cy="35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1213920"/>
            <a:ext cx="55008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447920" y="34290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971800" y="365760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905120" y="533520"/>
            <a:ext cx="397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85840" y="214200"/>
            <a:ext cx="84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文鼎標楷下漢語寬拼音C1"/>
                <a:ea typeface="文鼎標楷下漢語寬拼音C1"/>
              </a:rPr>
              <a:t>過</a:t>
            </a:r>
            <a:r>
              <a:rPr b="1" lang="en-US" sz="4400" spc="-1" strike="noStrike">
                <a:solidFill>
                  <a:srgbClr val="000000"/>
                </a:solidFill>
                <a:latin typeface="文鼎標楷下漢語寬拼音C1"/>
                <a:ea typeface="文鼎標楷下漢語寬拼音C1"/>
              </a:rPr>
              <a:t>馬路</a:t>
            </a:r>
            <a:r>
              <a:rPr b="1" lang="zh-CN" sz="4400" spc="-1" strike="noStrike">
                <a:solidFill>
                  <a:srgbClr val="000000"/>
                </a:solidFill>
                <a:latin typeface="文鼎標楷下漢語寬拼音C1"/>
                <a:ea typeface="文鼎標楷下漢語寬拼音C1"/>
              </a:rPr>
              <a:t>要</a:t>
            </a:r>
            <a:r>
              <a:rPr b="1" lang="en-US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…</a:t>
            </a:r>
            <a:r>
              <a:rPr b="1" lang="en-US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430280" y="1214280"/>
            <a:ext cx="234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過</a:t>
            </a:r>
            <a:r>
              <a:rPr b="1" lang="zh-TW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馬路要左看右看</a:t>
            </a:r>
            <a:r>
              <a:rPr b="1" lang="zh-TW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8" descr="crosswalk 031510.jpg"/>
          <p:cNvPicPr/>
          <p:nvPr/>
        </p:nvPicPr>
        <p:blipFill>
          <a:blip r:embed="rId1"/>
          <a:stretch/>
        </p:blipFill>
        <p:spPr>
          <a:xfrm>
            <a:off x="5018040" y="2857680"/>
            <a:ext cx="3787920" cy="302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walkstop light 031510.jpg"/>
          <p:cNvPicPr/>
          <p:nvPr/>
        </p:nvPicPr>
        <p:blipFill>
          <a:blip r:embed="rId2"/>
          <a:stretch/>
        </p:blipFill>
        <p:spPr>
          <a:xfrm>
            <a:off x="6429240" y="35712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pedestrians 031510.jpg"/>
          <p:cNvPicPr/>
          <p:nvPr/>
        </p:nvPicPr>
        <p:blipFill>
          <a:blip r:embed="rId3"/>
          <a:stretch/>
        </p:blipFill>
        <p:spPr>
          <a:xfrm>
            <a:off x="571680" y="4429080"/>
            <a:ext cx="2714400" cy="2044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1"/>
          <p:cNvSpPr/>
          <p:nvPr/>
        </p:nvSpPr>
        <p:spPr>
          <a:xfrm>
            <a:off x="2187000" y="2214720"/>
            <a:ext cx="8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媽媽和小孩一起</a:t>
            </a:r>
            <a:r>
              <a:rPr b="1" lang="zh-TW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1399320" y="3500280"/>
            <a:ext cx="23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走在我們的後面</a:t>
            </a:r>
            <a:r>
              <a:rPr b="1" lang="zh-TW" sz="3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71840" y="6215040"/>
            <a:ext cx="6572160" cy="3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ndependent practice: what do you see on the way to school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29289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TW" sz="2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沒有</a:t>
            </a:r>
            <a:r>
              <a:rPr b="1" lang="zh-TW" sz="2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,</a:t>
            </a:r>
            <a:r>
              <a:rPr b="1" lang="zh-TW" sz="2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但是有</a:t>
            </a:r>
            <a:r>
              <a:rPr b="1" lang="zh-TW" sz="2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1"/>
          <a:stretch/>
        </p:blipFill>
        <p:spPr>
          <a:xfrm>
            <a:off x="3857760" y="1571760"/>
            <a:ext cx="4500360" cy="4041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4919400" y="357120"/>
            <a:ext cx="24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馬路上有很多狗嗎</a:t>
            </a:r>
            <a:r>
              <a:rPr b="1" lang="zh-TW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71840" y="6215040"/>
            <a:ext cx="6572160" cy="3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ndependent practice: what do you see on the way to school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71320" y="4286160"/>
            <a:ext cx="80010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       </a:t>
            </a:r>
            <a:r>
              <a:rPr b="1" lang="zh-TW" sz="2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前面是不是學校</a:t>
            </a:r>
            <a:r>
              <a:rPr b="1" lang="zh-TW" sz="2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    </a:t>
            </a:r>
            <a:r>
              <a:rPr b="1" lang="zh-TW" sz="2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不</a:t>
            </a:r>
            <a:r>
              <a:rPr b="1" lang="zh-TW" sz="2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,</a:t>
            </a:r>
            <a:r>
              <a:rPr b="1" lang="zh-TW" sz="2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前面不是學校</a:t>
            </a:r>
            <a:r>
              <a:rPr b="1" lang="zh-TW" sz="2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,</a:t>
            </a:r>
            <a:r>
              <a:rPr b="1" lang="zh-TW" sz="2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前面是公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9" descr=""/>
          <p:cNvPicPr/>
          <p:nvPr/>
        </p:nvPicPr>
        <p:blipFill>
          <a:blip r:embed="rId1"/>
          <a:stretch/>
        </p:blipFill>
        <p:spPr>
          <a:xfrm>
            <a:off x="3857760" y="357120"/>
            <a:ext cx="4000320" cy="3592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1198440" y="4287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413000" y="24289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後</a:t>
            </a:r>
            <a:r>
              <a:rPr b="1" lang="zh-TW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30477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Cultur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928800" y="1000080"/>
            <a:ext cx="5443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路</a:t>
            </a:r>
            <a:r>
              <a:rPr b="1" lang="en-US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-</a:t>
            </a:r>
            <a:r>
              <a:rPr b="1" lang="en-US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馬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右看</a:t>
            </a:r>
            <a:r>
              <a:rPr b="1" lang="en-US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-</a:t>
            </a:r>
            <a:r>
              <a:rPr b="1" lang="en-US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右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左看</a:t>
            </a:r>
            <a:r>
              <a:rPr b="1" lang="en-US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616480" y="2928960"/>
            <a:ext cx="220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文鼎標楷下漢語寬拼音C1"/>
                <a:ea typeface="文鼎標楷下漢語寬拼音C1"/>
              </a:rPr>
              <a:t>Closure</a:t>
            </a:r>
            <a:r>
              <a:rPr b="1" lang="en-US" sz="3200" spc="-1" strike="noStrike">
                <a:solidFill>
                  <a:srgbClr val="ff0000"/>
                </a:solidFill>
                <a:latin typeface="文鼎標楷下漢語寬拼音C1"/>
                <a:ea typeface="文鼎標楷下漢語寬拼音C1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506880" y="5715000"/>
            <a:ext cx="54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文鼎標楷下漢語寬拼音C1"/>
                <a:ea typeface="文鼎標楷下漢語寬拼音C1"/>
              </a:rPr>
              <a:t>Sing along with texbook E-pen #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4143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destrian crossing =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ED XING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班馬線   </a:t>
            </a:r>
            <a:r>
              <a:rPr b="1" lang="en-US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bān mǎ xià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文鼎標楷下漢語寬拼音C1"/>
                <a:ea typeface="文鼎標楷下漢語寬拼音C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人行道    </a:t>
            </a:r>
            <a:r>
              <a:rPr b="1" lang="en-US" sz="3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xíng rén dà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642960" y="3929040"/>
            <a:ext cx="3429000" cy="2487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5643720" y="3143160"/>
            <a:ext cx="2395440" cy="3152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3"/>
          <a:stretch/>
        </p:blipFill>
        <p:spPr>
          <a:xfrm>
            <a:off x="6310440" y="571680"/>
            <a:ext cx="2833560" cy="24462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19"/>
          <p:cNvSpPr/>
          <p:nvPr/>
        </p:nvSpPr>
        <p:spPr>
          <a:xfrm rot="16636800">
            <a:off x="1478520" y="3996360"/>
            <a:ext cx="2408400" cy="485640"/>
          </a:xfrm>
          <a:prstGeom prst="leftArrow">
            <a:avLst>
              <a:gd name="adj1" fmla="val 50000"/>
              <a:gd name="adj2" fmla="val 50281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19"/>
          <p:cNvSpPr/>
          <p:nvPr/>
        </p:nvSpPr>
        <p:spPr>
          <a:xfrm rot="12697200">
            <a:off x="5212800" y="1920600"/>
            <a:ext cx="1742760" cy="485640"/>
          </a:xfrm>
          <a:prstGeom prst="leftArrow">
            <a:avLst>
              <a:gd name="adj1" fmla="val 50000"/>
              <a:gd name="adj2" fmla="val 50224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28800" y="5285880"/>
            <a:ext cx="75009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</a:t>
            </a:r>
            <a:r>
              <a:rPr b="1" lang="zh-CN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他們在</a:t>
            </a: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做什麼</a:t>
            </a:r>
            <a:r>
              <a:rPr b="1" lang="en-US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M:\lesson 6\1.jpg"/>
          <p:cNvPicPr/>
          <p:nvPr/>
        </p:nvPicPr>
        <p:blipFill>
          <a:blip r:embed="rId1"/>
          <a:stretch/>
        </p:blipFill>
        <p:spPr>
          <a:xfrm>
            <a:off x="2357280" y="500040"/>
            <a:ext cx="4467240" cy="44672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57120" y="214200"/>
            <a:ext cx="45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他們是</a:t>
            </a: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誰</a:t>
            </a: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M:\lesson 6\2.jpg"/>
          <p:cNvPicPr/>
          <p:nvPr/>
        </p:nvPicPr>
        <p:blipFill>
          <a:blip r:embed="rId1"/>
          <a:stretch/>
        </p:blipFill>
        <p:spPr>
          <a:xfrm>
            <a:off x="1857240" y="214200"/>
            <a:ext cx="5043600" cy="3884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2820960" y="4286160"/>
            <a:ext cx="219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她</a:t>
            </a:r>
            <a:r>
              <a:rPr b="1" lang="zh-TW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在哪裏</a:t>
            </a:r>
            <a:r>
              <a:rPr b="1" lang="zh-TW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她要</a:t>
            </a:r>
            <a:r>
              <a:rPr b="1" lang="zh-TW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做什麼</a:t>
            </a:r>
            <a:r>
              <a:rPr b="1" lang="zh-CN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9680" y="5286240"/>
            <a:ext cx="6000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你看到什麼？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9" descr="M:\lesson 6\3.jpg"/>
          <p:cNvPicPr/>
          <p:nvPr/>
        </p:nvPicPr>
        <p:blipFill>
          <a:blip r:embed="rId1"/>
          <a:stretch/>
        </p:blipFill>
        <p:spPr>
          <a:xfrm>
            <a:off x="4000680" y="500040"/>
            <a:ext cx="4857480" cy="4857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1545840" y="428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說說看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642840" y="285840"/>
            <a:ext cx="50007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100"/>
            </a:br>
            <a:r>
              <a:rPr b="1" lang="en-US" sz="61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過馬路</a:t>
            </a:r>
            <a:br>
              <a:rPr sz="6100"/>
            </a:b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1000080" y="3786120"/>
            <a:ext cx="3124080" cy="245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2"/>
          <a:stretch/>
        </p:blipFill>
        <p:spPr>
          <a:xfrm>
            <a:off x="4286160" y="2714760"/>
            <a:ext cx="4262400" cy="36795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5632560" y="1429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一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traffic ligths 031510.jpg"/>
          <p:cNvPicPr/>
          <p:nvPr/>
        </p:nvPicPr>
        <p:blipFill>
          <a:blip r:embed="rId3"/>
          <a:stretch/>
        </p:blipFill>
        <p:spPr>
          <a:xfrm>
            <a:off x="1785960" y="357120"/>
            <a:ext cx="1639800" cy="3114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900000" y="0"/>
            <a:ext cx="515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356920" y="214200"/>
            <a:ext cx="36435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小心</a:t>
            </a:r>
            <a:r>
              <a:rPr b="1" lang="en-US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1"/>
          <a:stretch/>
        </p:blipFill>
        <p:spPr>
          <a:xfrm>
            <a:off x="500040" y="2786040"/>
            <a:ext cx="3521160" cy="3506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be careful snakes 031510.jpg"/>
          <p:cNvPicPr/>
          <p:nvPr/>
        </p:nvPicPr>
        <p:blipFill>
          <a:blip r:embed="rId2"/>
          <a:stretch/>
        </p:blipFill>
        <p:spPr>
          <a:xfrm>
            <a:off x="4572000" y="2571840"/>
            <a:ext cx="4411800" cy="3512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be careful fall 031510.jpg"/>
          <p:cNvPicPr/>
          <p:nvPr/>
        </p:nvPicPr>
        <p:blipFill>
          <a:blip r:embed="rId3"/>
          <a:stretch/>
        </p:blipFill>
        <p:spPr>
          <a:xfrm>
            <a:off x="5857920" y="214200"/>
            <a:ext cx="3103560" cy="235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caution 031510.jpg"/>
          <p:cNvPicPr/>
          <p:nvPr/>
        </p:nvPicPr>
        <p:blipFill>
          <a:blip r:embed="rId4"/>
          <a:stretch/>
        </p:blipFill>
        <p:spPr>
          <a:xfrm>
            <a:off x="642960" y="285840"/>
            <a:ext cx="14288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571480" y="213840"/>
            <a:ext cx="35002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左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9" descr="look left chinese 031510.jpg"/>
          <p:cNvPicPr/>
          <p:nvPr/>
        </p:nvPicPr>
        <p:blipFill>
          <a:blip r:embed="rId1"/>
          <a:stretch/>
        </p:blipFill>
        <p:spPr>
          <a:xfrm>
            <a:off x="5286240" y="2214720"/>
            <a:ext cx="3000600" cy="3983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turn left sign 031510.jpg"/>
          <p:cNvPicPr/>
          <p:nvPr/>
        </p:nvPicPr>
        <p:blipFill>
          <a:blip r:embed="rId2"/>
          <a:stretch/>
        </p:blipFill>
        <p:spPr>
          <a:xfrm>
            <a:off x="6643800" y="285840"/>
            <a:ext cx="1743120" cy="131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look left 1 031510.jpg"/>
          <p:cNvPicPr/>
          <p:nvPr/>
        </p:nvPicPr>
        <p:blipFill>
          <a:blip r:embed="rId3"/>
          <a:stretch/>
        </p:blipFill>
        <p:spPr>
          <a:xfrm>
            <a:off x="1143000" y="1571760"/>
            <a:ext cx="3129120" cy="2357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look left sign 031510.jpg"/>
          <p:cNvPicPr/>
          <p:nvPr/>
        </p:nvPicPr>
        <p:blipFill>
          <a:blip r:embed="rId4"/>
          <a:stretch/>
        </p:blipFill>
        <p:spPr>
          <a:xfrm>
            <a:off x="785880" y="4214880"/>
            <a:ext cx="37861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57120" y="428760"/>
            <a:ext cx="35006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右 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4357800" y="378612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look left sign 031510.jpg"/>
          <p:cNvPicPr/>
          <p:nvPr/>
        </p:nvPicPr>
        <p:blipFill>
          <a:blip r:embed="rId2"/>
          <a:stretch/>
        </p:blipFill>
        <p:spPr>
          <a:xfrm>
            <a:off x="285840" y="1714680"/>
            <a:ext cx="4078080" cy="3071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traffic ligths 031510.jpg"/>
          <p:cNvPicPr/>
          <p:nvPr/>
        </p:nvPicPr>
        <p:blipFill>
          <a:blip r:embed="rId3"/>
          <a:stretch/>
        </p:blipFill>
        <p:spPr>
          <a:xfrm>
            <a:off x="7000920" y="214200"/>
            <a:ext cx="1639800" cy="31147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5972040" y="142920"/>
            <a:ext cx="515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2" descr="turn right sign 031510.jpg"/>
          <p:cNvPicPr/>
          <p:nvPr/>
        </p:nvPicPr>
        <p:blipFill>
          <a:blip r:embed="rId4"/>
          <a:stretch/>
        </p:blipFill>
        <p:spPr>
          <a:xfrm>
            <a:off x="1214280" y="4929120"/>
            <a:ext cx="23511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字方塊 11"/>
          <p:cNvSpPr/>
          <p:nvPr/>
        </p:nvSpPr>
        <p:spPr>
          <a:xfrm>
            <a:off x="1000080" y="21420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</a:t>
            </a: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方向</a:t>
            </a: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(</a:t>
            </a:r>
            <a:r>
              <a:rPr b="1" lang="en-US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direction)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143760" y="142884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6018120" y="5121360"/>
            <a:ext cx="105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4138560" y="30718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8067600" y="31431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17"/>
          <p:cNvSpPr/>
          <p:nvPr/>
        </p:nvSpPr>
        <p:spPr>
          <a:xfrm>
            <a:off x="7048440" y="3257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18"/>
          <p:cNvSpPr/>
          <p:nvPr/>
        </p:nvSpPr>
        <p:spPr>
          <a:xfrm>
            <a:off x="6286680" y="25718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19"/>
          <p:cNvSpPr/>
          <p:nvPr/>
        </p:nvSpPr>
        <p:spPr>
          <a:xfrm>
            <a:off x="5143680" y="3257640"/>
            <a:ext cx="975960" cy="485640"/>
          </a:xfrm>
          <a:prstGeom prst="leftArrow">
            <a:avLst>
              <a:gd name="adj1" fmla="val 50000"/>
              <a:gd name="adj2" fmla="val 50241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20"/>
          <p:cNvSpPr/>
          <p:nvPr/>
        </p:nvSpPr>
        <p:spPr>
          <a:xfrm>
            <a:off x="6303960" y="3763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0" descr="direction sign 031510.jpg"/>
          <p:cNvPicPr/>
          <p:nvPr/>
        </p:nvPicPr>
        <p:blipFill>
          <a:blip r:embed="rId1"/>
          <a:stretch/>
        </p:blipFill>
        <p:spPr>
          <a:xfrm>
            <a:off x="500040" y="357120"/>
            <a:ext cx="2855880" cy="3071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directions 031510.jpg"/>
          <p:cNvPicPr/>
          <p:nvPr/>
        </p:nvPicPr>
        <p:blipFill>
          <a:blip r:embed="rId2"/>
          <a:stretch/>
        </p:blipFill>
        <p:spPr>
          <a:xfrm>
            <a:off x="785880" y="3714840"/>
            <a:ext cx="2714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9:55:18Z</dcterms:created>
  <dc:creator>Monica</dc:creator>
  <dc:description/>
  <dc:language>en-US</dc:language>
  <cp:lastModifiedBy>Monica</cp:lastModifiedBy>
  <dcterms:modified xsi:type="dcterms:W3CDTF">2010-03-15T19:57:09Z</dcterms:modified>
  <cp:revision>1</cp:revision>
  <dc:subject/>
  <dc:title>二零一零年三月十五日星期一</dc:title>
</cp:coreProperties>
</file>